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885B-6E96-4074-AF4D-A155FA84E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35C-B686-4247-AF6A-9E098526B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991-5CF9-4BDB-A760-5BE13BFB5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CA9B-B61C-467A-8D48-71A28387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6ECB-6166-497D-A42B-EC550087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9BFC-4A64-4166-A58F-F8C4237F5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6B7A-7E39-479C-BE5A-72A5A23A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E274-A5DD-4E3A-A2C6-B334642D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C56-CC9F-4F97-835E-23A11A34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DAA-A758-461D-BE6F-B5B24AD2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D688-D1A4-43FC-8B4F-0B272D05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ED80-41D3-41FD-A99F-9CDB3FF0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D533-A6EF-405E-8A02-1F1AAD16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2D11-E9B8-4F28-8732-4906F47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0764-1829-4E08-A01E-860CA8D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DCED-561A-4C6E-B550-3E2BF5A2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D218-A65D-41F1-9B82-FF8E5E72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FF3-E21E-4562-8A6D-545CA547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B670-56A4-4492-BACF-1895E867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2589-A748-4CBF-B899-8B89B01C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6903-963A-44C8-8A33-5FCB70C5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3D8A-A9CA-43E8-AC75-EA65777FF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A26F-B9A9-446F-95B2-B08670342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1AF-17B9-4A8A-B8D7-612ED42A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30F-36D6-4439-9D1F-923285B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B93F-906A-41DD-9473-5225290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0DC-23B7-4B6F-8927-848F752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33A8-372B-4CC6-9C4D-7AC11A5B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657-1110-454D-AD9B-9979CEFC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C92-D63C-4D19-8961-2D6B6C87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F3D2-E261-433A-ACCF-56BFF17613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5C56-0400-4214-87CB-1BB64FB464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enlancour@charter.ne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oinc.org/" TargetMode="External"/><Relationship Id="rId2" Type="http://schemas.openxmlformats.org/officeDocument/2006/relationships/hyperlink" Target="http://www.soinc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3200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2011 MICROBE MISSION(B/C) 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11-4-201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62160" y="4647960"/>
            <a:ext cx="4800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KAREN LANCO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SUPER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National Rules Committee Chairman – Life Scienc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karenlancour@charter.net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SO LOGO"/>
          <p:cNvPicPr/>
          <p:nvPr/>
        </p:nvPicPr>
        <p:blipFill>
          <a:blip r:embed="rId2"/>
          <a:stretch/>
        </p:blipFill>
        <p:spPr>
          <a:xfrm>
            <a:off x="2514600" y="914400"/>
            <a:ext cx="388620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Cellular vs. Acellular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28600" y="1828800"/>
            <a:ext cx="8726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A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use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do not have cellular components, nor do they grow or metabolize organic materials.  They generally consist of a piece of nucleic acid encased in protein which must use the cellular components of a living cell to reproduc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ion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teinaceous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fectious particles) are infectious agents composed primarily of protein which induce the existing polypeptides in host cells to take on its for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ellular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–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teri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chaea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re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karyotic cel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whil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alga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fungi,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nd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 protozoa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ave </a:t>
            </a: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eukaryotic cell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karyotic vs. Eukaryotic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4459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Pro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single cell with nuclear material but no nuclear membrane or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ukaryotic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most cells – with organized nucleus and membrane bound organe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celltypes1"/>
          <p:cNvPicPr/>
          <p:nvPr/>
        </p:nvPicPr>
        <p:blipFill>
          <a:blip r:embed="rId1"/>
          <a:stretch/>
        </p:blipFill>
        <p:spPr>
          <a:xfrm>
            <a:off x="5621400" y="217008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Animal Cell</a:t>
            </a:r>
            <a:r>
              <a:rPr b="0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5" descr="cell1"/>
          <p:cNvPicPr/>
          <p:nvPr/>
        </p:nvPicPr>
        <p:blipFill>
          <a:blip r:embed="rId1"/>
          <a:stretch/>
        </p:blipFill>
        <p:spPr>
          <a:xfrm>
            <a:off x="1066680" y="1600200"/>
            <a:ext cx="7239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Cell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Special Featur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114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ell wall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– protection and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hloroplast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- for photosyn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arge central vacuole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r storage and increase surface area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44760" y="20178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lantCelldiagr"/>
          <p:cNvPicPr/>
          <p:nvPr/>
        </p:nvPicPr>
        <p:blipFill>
          <a:blip r:embed="rId2"/>
          <a:stretch/>
        </p:blipFill>
        <p:spPr>
          <a:xfrm>
            <a:off x="4724280" y="2057400"/>
            <a:ext cx="39718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rganelles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Microbial Origi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2209680"/>
            <a:ext cx="8955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tochondria and Chloroplast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have DNA similar to that of a Prokaryotic cell and can reproduce independent of the rest of the Eukaryotic ce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t is believed that both chloroplasts and mitochondria were one independent Prokaryotes who took up residence in the Eukaryotic cell and have developed a special symbiotic relationsh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MICROBIAL GROWTH CURV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9" name="Picture 2" descr="C:\Users\Karen Lancour\Pictures\My Pictures\SO Event Diagrams\Microbe Mission\General\growthcurve.jpg"/>
          <p:cNvPicPr/>
          <p:nvPr/>
        </p:nvPicPr>
        <p:blipFill>
          <a:blip r:embed="rId1"/>
          <a:stretch/>
        </p:blipFill>
        <p:spPr>
          <a:xfrm>
            <a:off x="330120" y="1963800"/>
            <a:ext cx="85168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16002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Only one cell – a prokaryotic cel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Live in all environments – even above boiling point and below freezing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Basically three shapes – spherical , rod , and spiral or helical (spirullum)  Exist as individuals or cluster together to form pairs, chains, squares, or other groupin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form spor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photoautotrophic -  make their own food as plants and give off oxygen –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Cyano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lso aerobic </a:t>
            </a:r>
            <a:r>
              <a:rPr b="1" lang="en-US" sz="1800" spc="-1" strike="noStrike">
                <a:solidFill>
                  <a:srgbClr val="e62d1a"/>
                </a:solidFill>
                <a:latin typeface="Tahoma"/>
              </a:rPr>
              <a:t>Purple and green bacteria 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are anaerobic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are chemoautotrophic -  synthesize their own food using energy from chemical reactions – important for recycling in nitrogen and sulfur cycl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ome have flagella -  rotates like a tiny outboard motor, other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Tahoma"/>
              </a:rPr>
              <a:t>secrete a slime layer and move over surfaces like slug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7" descr="Composite Bacterial Cell"/>
          <p:cNvPicPr/>
          <p:nvPr/>
        </p:nvPicPr>
        <p:blipFill>
          <a:blip r:embed="rId1"/>
          <a:stretch/>
        </p:blipFill>
        <p:spPr>
          <a:xfrm>
            <a:off x="4952880" y="27000"/>
            <a:ext cx="3810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SHAP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Picture 3" descr="360px-Bacterial_morphology_diagram_svg.png"/>
          <p:cNvPicPr/>
          <p:nvPr/>
        </p:nvPicPr>
        <p:blipFill>
          <a:blip r:embed="rId1"/>
          <a:stretch/>
        </p:blipFill>
        <p:spPr>
          <a:xfrm>
            <a:off x="1981080" y="1843200"/>
            <a:ext cx="52279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2591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GRAM + VS. GRAM – BACTERIA</a:t>
            </a:r>
            <a:r>
              <a:rPr b="1" lang="en-US" sz="28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80520" y="2666520"/>
            <a:ext cx="8574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posi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purple under Gram st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ck bilayer wall of the polymer peptidoglyca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Gram negative bacter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tain 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have a thin layer of this polymer and an additional lipopolysaccharide outer layer, LPS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ften endotoxic  - capable of initiating inflammation and cell-mediated immune respons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e.g.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almon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Shigell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, and </a:t>
            </a:r>
            <a:r>
              <a:rPr b="1" i="1" lang="en-US" sz="2000" spc="-1" strike="noStrike">
                <a:solidFill>
                  <a:srgbClr val="0033cc"/>
                </a:solidFill>
                <a:latin typeface="Tahoma"/>
              </a:rPr>
              <a:t>Escherichia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2" descr="Gram Positive and Gram Negative CW"/>
          <p:cNvPicPr/>
          <p:nvPr/>
        </p:nvPicPr>
        <p:blipFill>
          <a:blip r:embed="rId1"/>
          <a:stretch/>
        </p:blipFill>
        <p:spPr>
          <a:xfrm>
            <a:off x="5715000" y="228600"/>
            <a:ext cx="296064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43354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rcha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Content Placeholder 3" descr="Archaea.bmp"/>
          <p:cNvPicPr/>
          <p:nvPr/>
        </p:nvPicPr>
        <p:blipFill>
          <a:blip r:embed="rId1"/>
          <a:stretch/>
        </p:blipFill>
        <p:spPr>
          <a:xfrm>
            <a:off x="6858000" y="3049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228240" y="16761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imilar to bacteria – prokaryoti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ell walls lack </a:t>
            </a:r>
            <a:r>
              <a:rPr b="1" lang="en-US" sz="2800" spc="-1" strike="noStrike">
                <a:solidFill>
                  <a:srgbClr val="e62d1a"/>
                </a:solidFill>
                <a:latin typeface="Tahoma"/>
              </a:rPr>
              <a:t>peptidoglycan + other differ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rigin very old - during formation of the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Extremely tolerant to heat, acid, and toxic g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ound in extreme habitats in anaerobic environments to produce methane, high salt concentrations or hot acid environ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volved in carbon &amp; nitrogen cycles, assist in digestion, &amp; can be used in sewage treat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DISCLAIM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is presentation was prepared using draft rules.  There may be some changes in the final copy of the rules.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The rules which will be in your Coaches Manual and Student Manuals will be the official rules.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46404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lgal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(ALGAE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0720"/>
            <a:ext cx="826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re Eukaryotic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und in fresh and salt water environmen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live on rocks, trees, and in soils with enough mois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an carry on photosynthesis – produce large amount of oxyg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Diatoms, </a:t>
            </a:r>
            <a:r>
              <a:rPr b="1" i="1" lang="en-US" sz="3200" spc="-1" strike="noStrike">
                <a:solidFill>
                  <a:srgbClr val="e62d1a"/>
                </a:solidFill>
                <a:latin typeface="Tahoma"/>
              </a:rPr>
              <a:t>Clamydomonas, Volvox, Spirogy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Picture 2" descr="Grouped_Diatoms.jpg"/>
          <p:cNvPicPr/>
          <p:nvPr/>
        </p:nvPicPr>
        <p:blipFill>
          <a:blip r:embed="rId1"/>
          <a:stretch/>
        </p:blipFill>
        <p:spPr>
          <a:xfrm>
            <a:off x="6553080" y="457200"/>
            <a:ext cx="196380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14200"/>
            <a:ext cx="84103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Animal-like Protist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        (PROTOZOA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2017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rotozoa means “little animal” – act like tiny animals – Eukaryo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Hunt other microbes for f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ainly feed on bacteria, also other protozoa and some alg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Digest food in digestive orga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iliates, Amoebaes, Flagellates  - 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aramecium, Amoeba,  Euglen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Most are not harmful – a few are harmfu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ertain protozoa can cause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dysentery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and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2" descr="Amoeba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2440" cy="16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334476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0520" y="1981080"/>
            <a:ext cx="85741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ellular level, more like animals than plants – Eukaryotic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Can’t synthesize their own foo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ingle celled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yeast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or multicellular clusters as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molds &amp; mushroo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Multicellular ones  form filament like strands –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hypha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Grow best in slightly acidic environment – can grow in low moistur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Live in soil, on plants &amp; animals, in fresh &amp; salt wat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One teaspoon of topsoil has about 120,000 fung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Baker’s yeast </a:t>
            </a: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for bread and brewing, some are used for antibiotics, others serve as decompos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Some cause disease in humans, animals and plants – ruin ¼ to ½ of fruits &amp; vegetables per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2" descr="Yeast - SEM.gif"/>
          <p:cNvPicPr/>
          <p:nvPr/>
        </p:nvPicPr>
        <p:blipFill>
          <a:blip r:embed="rId1"/>
          <a:stretch/>
        </p:blipFill>
        <p:spPr>
          <a:xfrm>
            <a:off x="6705720" y="0"/>
            <a:ext cx="19476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cellula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sists of a piece of nucleic acid (DNA or RNA) encased in protein and in some cases a membrane-like envel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y come in man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ound anywhere there are cells to infes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Exist to reproduce – must take over a suitable host c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Uses the cell machinery of the host cell to reprodu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2" descr="virus.gif"/>
          <p:cNvPicPr/>
          <p:nvPr/>
        </p:nvPicPr>
        <p:blipFill>
          <a:blip r:embed="rId1"/>
          <a:stretch/>
        </p:blipFill>
        <p:spPr>
          <a:xfrm>
            <a:off x="6781680" y="533520"/>
            <a:ext cx="1658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oteinaceous infectious particles, associated with a number of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haracterized by loss of motor control, dementia, paralysis, wasting and eventually de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ad Cow Diseas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catt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Creutzfeld-Jacob disease (CJD)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in hum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ENEFICIAL VS HARMFUL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828440"/>
            <a:ext cx="8726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Over 99% contribute to the quality of human lif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Live in every environment on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ecologic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in biogeochemical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uman digestion depends upon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mportant to the food industry and  the productions of many products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Help with wastewater  and oil spill cleanu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mall minority cause dis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28800" y="213840"/>
            <a:ext cx="71150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Produc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2133720"/>
            <a:ext cx="865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lk into yogurt, buttermilk, sour cream, chee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Aid in production of chocolate, bread products, wine, beer, t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ckling process to make pickles from cucumbers and sauerkraut from cabb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ermentation Products and their Uses</a:t>
            </a:r>
            <a:r>
              <a:rPr b="0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574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Carbon dioxide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bread mak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using baker’s yeast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Alcohol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wine making and brewing  using yeas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Lactic Acid –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lactic acid bacteria ferment milk into products as yogurt</a:t>
            </a:r>
            <a:r>
              <a:rPr b="0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ood Spoilage and Food Decomposition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icrobes play a key role – bacteria and fungi – in food spoilage and decompos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Many types can live at low temperatures as mold on food in the refrigerat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ood preservation techniques as salt and  high acid affect micro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NDUSTRIAL US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(fungi and bacteria) are used to make antibio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lgae are being used to make petroleu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Yeast and bacteria are used in producing medicin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Event Rules – 201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BE SURE TO CHECK THE 2011 EVENT RULES </a:t>
            </a:r>
            <a:r>
              <a:rPr b="1" lang="en-US" sz="4400" spc="-1" strike="noStrike">
                <a:solidFill>
                  <a:srgbClr val="0033cc"/>
                </a:solidFill>
                <a:latin typeface="Tahoma"/>
              </a:rPr>
              <a:t>FOR EVENT PARAMETERS AND TOPICS FOR EACH COMPETITION LEVEL</a:t>
            </a: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Ec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1904760"/>
            <a:ext cx="84978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Major producers in aquatic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Decomposers – bacteria and fungi – in many eco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Key role in Biogeochemical cycles to recycle carbon, nitrogen, carbon, w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Natural pest killers in gardens and on cr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eakdown oil from oil spi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Serve as natural water trea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Can cause some ecological problems as red tide and algal bloo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Wastewater Microbiology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2017440"/>
            <a:ext cx="8497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Microbes play a key role in water and waste treatment facilit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re involved in natural waterway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Involved in maintaining septic tank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liform bacteria as E. coli can contaminate water making it unsaf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3160" y="2286000"/>
            <a:ext cx="8421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There are many agents of infectious diseas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Microbes acting as agents are prions, viruses, bacteria, fungi, protozoa, 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xamples of common diseases for each to follow 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List of Microb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66680" y="201780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Be sure to check th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SO National webs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for the final 2011 List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of Disease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IR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88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ononucle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ol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ab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p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encephalit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Viral pneumo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West Nile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Yellow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80520" y="20178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icken Pox &amp; Shing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ommon Cold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gue Fev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bola Hemorrhagic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Her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fluen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eas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BACTERI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904760"/>
            <a:ext cx="4040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Anthr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Meningiti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acterial Pneumon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Botu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Chole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ental Caries (tooth deca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Gonorrh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egionnaire's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Lyme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44720" y="1676160"/>
            <a:ext cx="404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ptic Ulcer Dise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Pertussis (whooping coug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Rocky Mountain Spotted Fe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trep thr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yphil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ta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oxic Shock Syndr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yph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FUNGAL 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2285640"/>
            <a:ext cx="8192880" cy="38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Athlete’s foo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istoplasmo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Ringworm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hrush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OTOZOAN/ALGAL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DISEAS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980720"/>
            <a:ext cx="826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laria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Paralytic Shellfish Poisoning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Estuary Associated Syndrom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RION DISEAS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220932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62d1a"/>
                </a:solidFill>
                <a:latin typeface="Tahoma"/>
              </a:rPr>
              <a:t>Mad Cow Diseas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National Tournament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3bd6c"/>
                </a:solidFill>
                <a:latin typeface="Tahoma"/>
              </a:rPr>
              <a:t>Added Diseases Topic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arasitic W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lant Dise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Important Genera Related to Disease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2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TRAINING MATERIA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Power Poi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content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raining Handou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- content 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ample Tournament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sample problems with key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Event Supervisor Guide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event prep tips, set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needs and scoring tip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Internet Resources &amp; Training Material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– on the Science Olympiad website at 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soinc.org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under Even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 Mission &amp; Biology-Earth Science CD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as well as 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Division B and Division C Test Packets</a:t>
            </a:r>
            <a:r>
              <a:rPr b="0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re available from SO store at</a:t>
            </a:r>
            <a:r>
              <a:rPr b="1" lang="en-US" sz="2400" spc="-1" strike="noStrike">
                <a:solidFill>
                  <a:srgbClr val="7030a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soinc.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ARASITIC WORM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37720" y="2209320"/>
            <a:ext cx="81169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Hook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Pin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Schistosomiasi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apewor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62d1a"/>
                </a:solidFill>
                <a:latin typeface="Tahoma"/>
              </a:rPr>
              <a:t>Trichinosi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214200"/>
            <a:ext cx="86868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LANT DISEASES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by Microbe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981080"/>
            <a:ext cx="8345520" cy="41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Dutch Elm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Ergotis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Potato Bli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2d1a"/>
                </a:solidFill>
                <a:latin typeface="Tahoma"/>
              </a:rPr>
              <a:t>Crown Gall Dise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IMPORTANT GENER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2361960"/>
            <a:ext cx="834552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Wolbachia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e62d1a"/>
                </a:solidFill>
                <a:latin typeface="Tahoma"/>
              </a:rPr>
              <a:t>Batrachochytrium 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ahoma"/>
              </a:rPr>
              <a:t>MICROBE MISSION(B/C)</a:t>
            </a:r>
            <a:r>
              <a:rPr b="1" lang="en-US" sz="40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Description -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-oriented competition to answer questions, solve problems and analyze data pertaining to various microb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vent –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lab practical in stations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2d1a"/>
                </a:solidFill>
                <a:latin typeface="Tahoma"/>
              </a:rPr>
              <a:t>Event Parameters –</a:t>
            </a:r>
            <a:r>
              <a:rPr b="0" lang="en-US" sz="32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be sure to check the rules for resources allowed, type of goggles needed.</a:t>
            </a: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 Mission and Other SO Event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520" y="2361960"/>
            <a:ext cx="8574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isease Detective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2011 topic is Food Borne Illness (many are microbial caus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Ecolog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play key role in ecology as with biogeochemical cyc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Dynamic Planet 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– microbes are involved in every part of our planet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MICROB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1905120"/>
            <a:ext cx="895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term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be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is short for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icroorganism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which means small organism – observed with a microscop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Over 99% of microbe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ontribute to the quality of human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small minority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cause disease – in humans by sheer numbers or producing powerful toxi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The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major groups 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of microbes are bacteria, Archaea, algae, fungi, protozoa &amp; vir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In </a:t>
            </a:r>
            <a:r>
              <a:rPr b="1" lang="en-US" sz="2400" spc="-1" strike="noStrike">
                <a:solidFill>
                  <a:srgbClr val="e62d1a"/>
                </a:solidFill>
                <a:latin typeface="Tahoma"/>
              </a:rPr>
              <a:t>terms of numbers</a:t>
            </a: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, microbes represent most of the diversity of life on Earth and are found in every enviro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2011 Microscope Review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 special training handout covering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Relative Size of Microb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Types of Microscopes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– their uses, advantages and disadvanta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arts of a Light Microscope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nd their function </a:t>
            </a: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62d1a"/>
                </a:solidFill>
                <a:latin typeface="Tahoma"/>
              </a:rPr>
              <a:t>Principles of Microscop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RELATIVE SIZE OF MICROBES</a:t>
            </a:r>
            <a:r>
              <a:rPr b="1" lang="en-US" sz="4400" spc="-1" strike="noStrike">
                <a:solidFill>
                  <a:srgbClr val="262673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Picture 5" descr="C:\Users\Karen Lancour\Pictures\My Pictures\SO Event Diagrams\Microbe Mission\Cell Types\310px-Relative_scale_svg.png"/>
          <p:cNvPicPr/>
          <p:nvPr/>
        </p:nvPicPr>
        <p:blipFill>
          <a:blip r:embed="rId1"/>
          <a:stretch/>
        </p:blipFill>
        <p:spPr>
          <a:xfrm>
            <a:off x="990720" y="2017800"/>
            <a:ext cx="65530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18:36:06Z</dcterms:created>
  <dc:creator>Karen Lancour</dc:creator>
  <dc:description/>
  <dc:language>en-US</dc:language>
  <cp:lastModifiedBy>Karen Lancour</cp:lastModifiedBy>
  <dcterms:modified xsi:type="dcterms:W3CDTF">2010-11-04T19:55:26Z</dcterms:modified>
  <cp:revision>134</cp:revision>
  <dc:subject/>
  <dc:title>BioProcess Lab</dc:title>
</cp:coreProperties>
</file>